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29066-DCFB-4B7B-BAE4-AF4617DAEB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E7327-E6C0-41DA-AB74-B5E0A3A7D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B28B8-6FB4-4959-B406-99F71EA97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32E6-3FDC-4CE0-919F-54F22B0A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A8FB-8ED5-4861-B42B-F08FD41B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C2FE6-FB46-411F-B0C4-91A40872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BF0F3-68EA-44CD-8F22-E8ACCE55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CDE71-43E4-4A4F-B1CD-76ADE51C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F4456-5E7B-4974-A54B-7CCF6C7E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702AF-DB1C-461D-855B-D7054D00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48667-D513-44A0-B243-2CBB3216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EA0F2-8A51-46A6-94EA-38B1AA83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60EDE-8C7C-4F22-AA95-FFE7DAE0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AA424-8970-4E6F-B97F-8A2BD206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5CADA-7782-405F-9F8B-7AA5F88D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EB7E-C372-4C15-9A50-A74EABD2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8D8DA-00E1-4346-89B4-3EDB68DF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B919B-A69A-4746-A9DC-B83A65BC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5D055-18DD-4BFC-971B-C95B3E95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1F1E3-AE42-4CB4-8747-0A399E9D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E2951-1EE4-47BD-BAA1-F64286C4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4CA69-2519-49D4-A396-FB0B2753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BADB0-DE0D-405C-8421-A3EEC7B1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7C1DB-94C6-4085-91E8-9F9BF83F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2A583-9F09-40B3-B75F-0429F589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86BB7-E3F8-4EF1-8379-E53DB973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3F11-6687-4F23-B5E4-B7C87884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1C550-E497-44B7-9AEC-092BBA25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60535-EE41-4D24-8A1A-649E2BAA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FBBC2-8FE5-428C-A9A0-39414E4D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F80FC-CB0C-47AF-8D6A-AA8ED886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916A2-7A50-4EA3-90C3-4EE6E475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CB89A-AF14-4F82-A776-8D419F2B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68211-7CD1-4B96-B4DA-17968E3C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FA677-2DD6-4A05-BB0C-445F32B4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A039F-538B-4525-ADE5-26D9D63A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D7638-8866-42DE-A31B-0D9563C9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D7BC-2ABA-4C1B-8D8E-A5595C27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CA367-7D1F-4237-9D94-17020D68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D30C6-041E-426A-B07C-01568E04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866E2-C5EB-4D6F-BBB1-DDD47877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0EC53-0CBB-4F09-9A34-B7DC1C2A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F7568-8656-4A0A-99CB-3C0E7C2B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2CAA6-8E03-428D-9D65-6A32D262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A2BE8-C073-4545-AB72-65E5332A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62CF4-4F38-4F5D-A347-7666EE8F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1F23F-9631-4E3A-BAB1-CE6349A8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C934E-CE68-45D5-BA70-73AA56BB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ACF5-19C6-4951-9DFA-DDDD402B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5AFCB-C1E5-4B7A-B778-46587EC5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151BD-C428-4706-B93F-7D569878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7FAFD-6D0F-44E3-8F82-BBC427AC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33463-28BF-4AEE-B9BD-3DAFAFD7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B77A8-9604-4C96-A7F2-878F92EF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F63A48-D948-43E9-96B3-DCAB3277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14AF1-1418-4B9F-B7F6-9FE1F42E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6FCF09-3BBE-4805-8AC5-E6EE549E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2B1846-E80E-402A-9973-DBD572E3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1AFDF-D4B9-425D-817A-4841DC81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4BB4-0E9B-44AE-AEE7-3DC08E37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5CAE3-D026-4EA9-A297-4A12F65C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A6551-B18F-44E1-9FB4-50B8AD66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BBB1CE-9E11-4518-AD26-95DDCDCA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8231A-2EBE-4D55-BFC7-FD67FEEA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D2A60-E105-4E82-B3AD-E3B551A3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94D83A-948F-40E4-8555-26FC2BA9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60772-6623-4737-8186-4E43996D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9D3152-355D-4D29-8511-81181332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AA525-2CDC-47F8-9549-B45D0C91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1DEE7E-0493-4C2C-85F7-70C8DE3A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E8D7-370D-400D-9D48-EA76AFDE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DBBB3-37CB-4B94-A2D6-34C590AF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E560ED-A2EA-455B-89D1-4C0AB233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402133-FD95-457C-9F77-CE854FF3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F2F7FC-7CB8-4F6B-8E97-0B3FE23A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F846A-3077-42C6-82F5-C48213A0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7035AA-FFF3-4F5E-98E2-AD104070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50A041-2F44-4918-90E9-8E5683A2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FD7625-554B-43E2-8FD3-26C81B13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BB0372-6937-40EA-870F-409CE144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08229C-B936-4CE0-BFB2-0DBE4CED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6929-D6A1-4D93-AA0B-81B55BC8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D044BC-EE6C-42CC-AA2F-CC8B7EC5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78D183-A58D-43C3-8934-DF8980C7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602DE6-C373-4554-A26C-45A2A859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CB3FD6-9046-4015-BECF-36530204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F59065-FED3-47EA-9430-9FB82F73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52A3EA-EB48-448A-82D3-F3D13FE2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E36471-FFBF-428D-A2E2-340507FE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3B6F85-8AA5-4BD9-8E75-D454C831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45F043-2F0A-45E6-8D8D-882BDE28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403C00-ACB6-44B8-B5B0-3D398E72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6826-505E-4329-9374-48F3D421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5A9E2C-F0D2-40D3-B3CD-D5535CC0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E929F1-7666-4C9E-854A-B72DCF6E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945EDB-21C6-4997-9AE5-C87DD1F4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F6D1FB-6707-4850-B00B-02ADF393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D96576-18A0-40F4-AFF7-D8FF8E89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27F59D-F2EE-4BA4-94E0-3C6B830B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51C3A-F03E-487E-A76F-D1F72EEE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CFB952-2741-4AE9-8DBC-F64AFB1B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3B10E2-0AD3-4CBF-B076-9B20D2F0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F7491D-FAAF-4211-B3F5-3EE957BB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B178-3F0E-43E6-AD39-2EF0112D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A8552D-D544-4E00-A2A3-C796FADA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23057-8372-4F8B-B616-22149108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AF7573-E4BD-43EC-A076-9C821397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A90412-71E7-403F-82A4-4BC2E479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C4E18D-464B-4B46-B5E3-222C893E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524B41-0ADA-4412-9DF9-229B9641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54C298-AF0B-4ACD-8CB0-CD471179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9CB37B-1825-4F36-9021-32E84260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F44FB3-CEED-456D-B3FB-BB2450A2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15867B-5CBF-4AB0-8F31-1E66CC7B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03D-A969-40D9-BBCF-E66F6009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A0E9-7228-4F93-909E-A85A9B52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E8D2A3-0F60-4FB1-8235-924F3D96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3F7FF5-FDF1-498D-B4E0-16A2FDED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B8CD1F-1879-40BD-B174-0DCD719D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15FBF1-F674-4383-802C-9C0E32B4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C7E1BD-3499-4D9B-8135-72083B87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F459-0211-4C8C-B1BA-B5C40029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3641-D354-4A7E-9E84-3ECB2470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49EB-1A2A-41E1-9B57-C5D96140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B302-6E70-4702-8C8B-8F629BB8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289C4-0DC0-4BAF-B0F5-BC7E6954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399EB-BD9B-445C-888F-4EA33D6E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1489E-B869-48D6-8B29-39AA3CA2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31F4F-48A7-4109-BFD7-252750FA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C431F-5FB3-4152-9248-5716FDE1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6AE8-D956-4EF9-A47F-AF0240B4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5E495-6AEB-4EAD-8E98-77D18CFB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3D594-8BCD-4369-8579-9141C684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090AC-3E77-4327-8C5E-383B2055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38E7B-3A01-42B0-A9D1-00C32E93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0EA92-73E9-4211-8D44-5294DD26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4A9E2-79CD-45BB-AB32-AA34AC5C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E0600-BAA8-4EF3-B595-74905BC5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D9C75-656F-4235-9E01-9488BBD4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D1757-ABB2-44B1-B807-03A1C017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1D5BC-F17B-42AC-817C-5DC3E3A0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5D4E-EAF2-47E2-B6C0-D885F898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50EC2-C478-4997-8921-0C5C2253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493FC-0B50-448D-99F2-57D09818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DB977-00DF-46DB-B486-F12E84A2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5E2E1-7519-4C1F-AC25-68F41713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1D50C-DAE7-4623-A012-A338127D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95EDB-5CB1-4B5E-946B-9FCD68D1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F9CBB-88FD-4FBA-969C-706F61B9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DFBD2-DDDD-47B5-9E35-072D2812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67DAC-79B9-4561-94F6-1A11722A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BB402-AA75-4005-990F-7D03ADDD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F0A-4901-4AFA-B6B3-8C75BDDC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1BFE7-17D8-4969-B063-90D6D2EF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0FD39-FDC6-4A47-95F7-2D3B40F5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E614A-7383-42A3-A613-5E4861D4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70E83-C0CA-4C21-8C76-5B9B3309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B101A-20E1-4F1B-A940-FD5F53AF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39B90-C53B-4B59-B547-F2527202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9B498-A395-4AE7-9D89-D16B2846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313A3-67D7-42A0-B0C2-1B48B946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6D719-F0BC-4917-A451-DF7E7319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E7846-B9FB-4241-B34C-6478F525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956-A45C-4001-A536-B2505380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C8A24-4476-4689-8F34-CF25BD26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D3EA8-9C6F-4FBF-BBA6-779E741F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F459C-2FBB-4531-AA73-F5E63195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10062-C615-4D06-97AE-093DCA37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2593C-37F3-4019-A35C-6580D0AE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FABF6-26EF-4C33-BBA2-C63D6028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39F97-8E6A-4AF8-9CC8-635B222D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82534-350E-4773-BE71-952999A4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96116-4880-468C-B227-FDA35B80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DC252-D46D-47DB-8222-C19E9227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8BCD-7490-43A3-84F6-EEE053C9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D1D58-3FD8-4EBD-AD50-C5CBE75C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90EE8-2F24-4669-8C7F-DF8985C0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33978-2228-412E-A4A4-625D214A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ADC18-D955-4056-B830-0E0D85DA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1358C-5E34-4BBE-BCB8-6490B283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B88DA-0C75-40ED-AE99-19903CF6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F2446-3C09-44D9-A941-A68F7275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F74E3-C64E-4161-AE3D-AEB6D316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C285B-87CD-42D5-9096-F40DD6F5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98601-4692-4E1C-A857-4E08784A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A27A-0000-44A8-A3B4-07866A05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2EA54-3DC7-466F-B148-19A70CDF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4F928-2D1A-4678-872C-E9A17425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502F8-B492-4C75-8DA2-99083F49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A38E9-0FF7-4A91-96EA-BDC96252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8D172-44B6-45BE-80B5-16826C5D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187F6-3A05-4EE3-8C19-0F48DE84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3A183-2201-404D-B570-2A9EE715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7D8EF-F3C2-41F4-8DED-09D73372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87C78-326B-409D-848D-F90A84D5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CF065-4FF7-469A-81F3-D2C5C196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9CBF-10F3-4246-A762-BA31F355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6CC5F-A3FC-4C51-9983-8BB2DF61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DA781-EDEB-4C2B-B16A-F0D9B34F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278F9-DE5D-4980-98FF-613826D9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9279D-47F0-4421-B35A-7917AA0D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59BD5-CDA2-4BD4-A8B4-8939FB56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89499-076A-4FFD-BDF0-271CC022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D6252-8A08-4D86-88C0-E8898A7E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EA2AD-51F9-4A7A-8F7E-4D369DE9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360B2-BF11-4BFC-81D6-C4DC3831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A414D-21B1-47E4-8419-38691E63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5ADBD-2DC6-4A9E-A776-BC29270AD624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DB372-4B6F-44BD-9D8F-381B48B1BB3B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15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2C788-6E07-4807-A883-185D392552C8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72111-E42C-4425-BE7D-AA0B14BCC7A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60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20F25A-3861-4FA1-9716-6EDEC6F6FE0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6C4C1-72B4-4E49-B0A9-49E994727FE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506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BD3DA-5B80-4439-B8D3-0957830F3F0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3A163-9E14-432A-B6F2-66D8D87E7943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8"/>
          <p:cNvGrpSpPr/>
          <p:nvPr/>
        </p:nvGrpSpPr>
        <p:grpSpPr>
          <a:xfrm>
            <a:off x="284040" y="4280040"/>
            <a:ext cx="8575920" cy="137880"/>
            <a:chOff x="284040" y="4280040"/>
            <a:chExt cx="8575920" cy="137880"/>
          </a:xfrm>
        </p:grpSpPr>
        <p:sp>
          <p:nvSpPr>
            <p:cNvPr id="551" name="Rectangle 7"/>
            <p:cNvSpPr/>
            <p:nvPr/>
          </p:nvSpPr>
          <p:spPr>
            <a:xfrm>
              <a:off x="284040" y="4280040"/>
              <a:ext cx="2743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025800" y="4280040"/>
              <a:ext cx="1600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4626000" y="428004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6C4C4-D3EA-4776-94CE-D3746FD545AA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67791-933B-4AF1-9FCB-F9D498FE023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284040" y="4267080"/>
            <a:ext cx="2743200" cy="212112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4"/>
          <p:cNvGrpSpPr/>
          <p:nvPr/>
        </p:nvGrpSpPr>
        <p:grpSpPr>
          <a:xfrm>
            <a:off x="284040" y="461880"/>
            <a:ext cx="8575920" cy="136440"/>
            <a:chOff x="284040" y="461880"/>
            <a:chExt cx="8575920" cy="136440"/>
          </a:xfrm>
        </p:grpSpPr>
        <p:sp>
          <p:nvSpPr>
            <p:cNvPr id="597" name="Rectangle 8"/>
            <p:cNvSpPr/>
            <p:nvPr/>
          </p:nvSpPr>
          <p:spPr>
            <a:xfrm>
              <a:off x="284040" y="461880"/>
              <a:ext cx="274320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3025800" y="461880"/>
              <a:ext cx="160020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4626000" y="461880"/>
              <a:ext cx="4233960" cy="136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9CB46-9F4D-4CA7-B5E1-3C23920656E1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255C6-652D-4764-833B-6FF4D658401D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3021120" y="4802040"/>
            <a:ext cx="583704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643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61440-FE2D-47B3-9A6C-72BB0FC9C975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4FBAF-DD9A-4623-A8B1-4CF60F8AEFAD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689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EA3C4-00FF-45D2-A3B7-D232841B407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7C765-1F0E-4741-A370-91558E6E87F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 rot="5400000">
            <a:off x="5313600" y="2856600"/>
            <a:ext cx="5934240" cy="1135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7556400" y="457200"/>
            <a:ext cx="138240" cy="5934240"/>
            <a:chOff x="7556400" y="457200"/>
            <a:chExt cx="138240" cy="5934240"/>
          </a:xfrm>
        </p:grpSpPr>
        <p:sp>
          <p:nvSpPr>
            <p:cNvPr id="735" name="Rectangle 8"/>
            <p:cNvSpPr/>
            <p:nvPr/>
          </p:nvSpPr>
          <p:spPr>
            <a:xfrm rot="5400000">
              <a:off x="7072200" y="941040"/>
              <a:ext cx="11062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 rot="5400000">
              <a:off x="6676920" y="2444760"/>
              <a:ext cx="1897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0"/>
            <p:cNvSpPr/>
            <p:nvPr/>
          </p:nvSpPr>
          <p:spPr>
            <a:xfrm rot="5400000">
              <a:off x="6161040" y="4857840"/>
              <a:ext cx="2928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F312F-253F-441D-AB88-A7FD4B18268C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40439-851A-45B8-8426-1A2B0012C0BF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43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84040" y="6227640"/>
            <a:ext cx="8574120" cy="17316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B09DB-99BB-4A13-89BD-3965E40DCEBC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66B0A-C6EE-4A54-82B5-0E90CBC34D8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91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1CD6D-3955-4EE6-B434-FE250E6C5FB6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2D66B-956D-4893-BBEC-B81CD6DDF725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137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14002-B4E0-4E71-A7C2-A80F69926EA0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B5918-F712-4A40-B3E4-734A3C4DBB44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184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840E7-375D-4AAE-BF02-9749539E6A0B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67800-C011-4C42-BDD1-E02DE82FC557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231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04AB2-2409-4C85-865A-B23C56E91648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89A9A-F1E7-4EAA-BDEE-5BF61B61B114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278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485C7-30E9-4D04-A7EB-64E45DAF57BD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4EBC4-EFA9-4D9E-A2FC-D47D561A0EB1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24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09622-7644-44E1-916D-B385B3FA8F1F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12958-22D6-4E11-B5A2-2B077566A20D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70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D2B85-BFF9-481C-8D2E-0380E6789B4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68E54-AE07-4ADB-A542-9B800F9DB81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oflcon.org/roflcon-ii-confirmed-guests/" TargetMode="Externa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20480" y="448920"/>
            <a:ext cx="780876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CT 300: Critical Analysis of Med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75920" y="1531800"/>
            <a:ext cx="775332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ass 5:  From Understanding to Creating Conten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ontinued…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1920" indent="-421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ructure – notes on frame choices (e.g., bleeding pages, circles), use of grid in background as basic structure and of cours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21920" indent="-421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raft – notes on interview (including transcript from interview with his father), reproduction issues, sketches (and their evolution), frustrating panels to draw, ownership issu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21920" indent="-421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rface – reflection on his early history/influences and styles he admired (more on this in “In the Shadow of No Towers”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Application to Comic Cre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of you create at surface level – that’s OK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nsider webcomics – many are of questionable artistic merit, and that’s fin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*not* an art assignment – rather see quality construction and analysis vs. high end ar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Six steps and your comic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8240" indent="-4082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Idea – is the story itself interesting/compelling?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Form – are you taking chances with the medium of visual storytelling?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Idiom – do you have a notion where your comic fits in the grand scheme of comic genres?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Structure – are you experimenting with comic structure at all?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Craft – what artistic challenges did you face?  Did you overcome them?  Or not?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Surface – comments on look/feel, color, etc. ; also comments on borrowed assets if used 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A look ahead to the final project…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is a meme?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ome exampl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What is likely (and less likely) to go viral?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402840" y="2151000"/>
            <a:ext cx="39322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ore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4777920" y="2151000"/>
            <a:ext cx="39322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Less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How to propagate viral conten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1781280" y="2133720"/>
            <a:ext cx="70768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Assignment timelin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v 3 – proposal, considering message nature and distribution, plus summary and link to one Know Your Meme episod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y Nov 17 – creation of content and unleashing content to the worl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v 24 – presentation in class (science-fair style) – nature of content and analytics on its rea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N.B. this is not a popularity contest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In-class assignmen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00"/>
                </a:solidFill>
                <a:uFillTx/>
                <a:latin typeface="Calibri"/>
                <a:hlinkClick r:id="rId1"/>
              </a:rPr>
              <a:t>http://roflcon.org/roflcon-ii-confirmed-guests/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ick one guest – why do you think it could be considered memetic/viral content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Also consider going to ROFLCon in 2012.  It’s fun.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Next clas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oking at culture jamming and hacktivism – and the role of comics and visual images within i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Administr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627200" y="2133720"/>
            <a:ext cx="72309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9280" indent="-449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ic analysis papers du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anner contest – one more week to ad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ssignment reminders – Comic Creation Nov 3, final project Nov. 24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nal project group list on wiki – add your group (or name if you don’t have one.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nal exam dates/times released – Thursday Dec. 15 8-10p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Understanding/Reinventing/Making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cCloud’s trilogy of comic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oday – some notes on the process of mak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llowing weeks – more the social/political/economic foundations of comics as a mediu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1628399-mccloud_understanding_comics_super.jpeg"/>
          <p:cNvPicPr/>
          <p:nvPr/>
        </p:nvPicPr>
        <p:blipFill>
          <a:blip r:embed="rId1"/>
          <a:stretch/>
        </p:blipFill>
        <p:spPr>
          <a:xfrm>
            <a:off x="743040" y="1441440"/>
            <a:ext cx="761976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Six Step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rface as superficial – most people’s first step (e.g., copying work of others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pertise = developing a deeper appreciation of medium – practicing craft (e.g., sketches, doodles), different arrangements (e.g., frame sizes/grids), knowing and situating in idiom, experimenting with form, and developing an idea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MetaMaus as exampl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96" name="Picture 9" descr="WEB-metamaus-pa_1328319cl-8.jpeg"/>
          <p:cNvPicPr/>
          <p:nvPr/>
        </p:nvPicPr>
        <p:blipFill>
          <a:blip r:embed="rId1"/>
          <a:stretch/>
        </p:blipFill>
        <p:spPr>
          <a:xfrm>
            <a:off x="284040" y="2006640"/>
            <a:ext cx="5280120" cy="29638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0" descr="SpiegelmanMETAMAUS.jpeg"/>
          <p:cNvPicPr/>
          <p:nvPr/>
        </p:nvPicPr>
        <p:blipFill>
          <a:blip r:embed="rId2"/>
          <a:stretch/>
        </p:blipFill>
        <p:spPr>
          <a:xfrm>
            <a:off x="5694480" y="2006640"/>
            <a:ext cx="31068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Background on Maus 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5600" indent="-4356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biographical comic about Vladek Spiegelman’s survival of the Holocaus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5600" indent="-4356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imal metaphor – Jews as mice, Germans as cats, Americans as dogs etc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5600" indent="-4356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ritically and commercially successful – one million copies of each of Volumes I, II, and first comic to win a Pulitzer priz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5600" indent="-4356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pened eyes to the possibility of serious comics and brought in new/lapsed audi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MetaMau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Very) recently released book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terviews conducted with Art Spiegelman over four years, based on his notes/preparatory work/research bas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Your paper multiplied by about 100 in other word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pth of Spiegelman’ reflection and self-analysis quite extraordinary - a worthwhile rea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Six steps challenges faced by Spiegelman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dea– Holocaust stories are difficult by definition; auto/biographical element also difficult; structuring/balancing the animal metaphor (esp in cases where identity was fluid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rm – a comic about genocide was a difficult sell; moving from 3-page to long form issues; high/low art concer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diom – biographical serious comics were not normal fare when published; roots in alt comic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4:03:30Z</dcterms:created>
  <dc:creator>Sheridan College</dc:creator>
  <dc:description/>
  <dc:language>en-US</dc:language>
  <cp:lastModifiedBy>Sheridan College</cp:lastModifiedBy>
  <dcterms:modified xsi:type="dcterms:W3CDTF">2011-10-13T18:59:12Z</dcterms:modified>
  <cp:revision>41</cp:revision>
  <dc:subject/>
  <dc:title>CCT 300: Critical Analysis  of Media</dc:title>
</cp:coreProperties>
</file>